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78B-F224-48AC-9969-6B211BC4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3F6-89BE-4520-92B9-5180F25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045-5CB2-4607-8DEF-5210D554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2A9-98CE-47C8-8B48-6FC30C9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787-5C8F-4AB2-9495-B62410CC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9B20-9844-4F25-A81A-CAEE88A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9FB-249B-4858-84E5-985FDA4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056-8217-4276-B507-CFF34508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07CC-885E-46C2-A44A-2FAC9E4B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2237-4AC1-4557-8CF1-13F56C3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9EF-D2D2-43A5-8863-B74DDF9B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1A8-E362-4AB7-B33F-A915D5CE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4EF4-7B8D-4D1D-B099-29E14251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B95-2EE2-4F5D-B222-3556690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A6F6-8944-4ED6-878F-D862E292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E6CB-8FFC-49BF-A1FF-35CB6D1D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EFD-6E81-44BD-ABD5-DDF2145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37B-A5E2-4B12-BE7C-679B97F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FE2-7924-4749-9A3D-8C565565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C2F-EA1A-4DBF-9594-28FB4ADC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6B7-059B-4BD6-AAD5-482E4EAA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03B-D657-44E2-9DF5-4F23D3A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C98-4C01-41F0-9135-DAD1FF2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8CA-DC14-4DE8-BDB4-DE7A99E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CF3-BE9A-49D6-B547-7F3D8E7853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F60-8259-4184-B4B8-BF6A4C7591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о 1 января 2004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4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омп</cp:lastModifiedBy>
  <dcterms:modified xsi:type="dcterms:W3CDTF">2008-11-26T15:09:24Z</dcterms:modified>
  <cp:revision>8</cp:revision>
  <dc:subject/>
  <dc:title>Слайд 1</dc:title>
</cp:coreProperties>
</file>